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D4C2-4433-481A-B1E2-FB97CF361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017A-2D46-40ED-8F6B-8C252227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AAE3-7D17-4BC8-8DE1-5D5CFE7D6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BFFD-1428-46AB-8E51-A7B031F69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9B86-F365-4473-94E0-014933414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5643-261E-436F-8B8F-CA5527D8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034C-7764-4B09-8209-C6EDB36B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C552-5205-490B-B493-D289A7DB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C8C6-DD17-48AE-A7C7-569E9367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6C07-A818-46E0-A834-44AAB374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C1E4-E026-4209-8A73-9CE68383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E21E-C1BE-44C1-AC2E-AD470E35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0FA1-8A72-4EF1-A760-06961E1B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DD1F-6CD9-4D0D-A723-7F34AA63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C620-F3AA-4495-ADE7-1B4447AE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F52F-7104-48B1-8278-3D4D89058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335B-CE4A-45ED-86D9-A2A8EA629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E552-0A69-4628-941F-01D5EB0F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A3AF-0B33-4AF4-8C82-50FF9900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9544-3621-418B-A74D-6F73EFA8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0850-3EC9-4C5A-A0B8-4E183B7A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FD94-B711-4B4C-B2AC-1320A7A4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8CA9-3BCE-40F1-96EE-16660FF0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18FE-F88C-481B-966E-0D3767B2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1387-6547-4988-845D-271E9096053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78B3-CE9D-4FFB-9C62-65F0809D775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800000"/>
                </a:solidFill>
                <a:latin typeface="Arial"/>
                <a:cs typeface="PT Bold Heading"/>
              </a:rPr>
              <a:t>اسم المفعول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889308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00000"/>
                </a:solidFill>
                <a:latin typeface="Verdana"/>
                <a:cs typeface="ALAWI-3-1"/>
              </a:rPr>
              <a:t>الأمثلة :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257040" indent="-257040" algn="r" rtl="1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MCS Diwany2 S_U normal."/>
                <a:ea typeface="Traditional Arabic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MCS Diwany2 S_U normal."/>
                <a:cs typeface="Traditional Arabic"/>
              </a:rPr>
              <a:t>ـ قال تعالى :</a:t>
            </a:r>
            <a:r>
              <a:rPr b="1" lang="en-US" sz="3200" spc="-1" strike="noStrike">
                <a:solidFill>
                  <a:srgbClr val="000000"/>
                </a:solidFill>
                <a:latin typeface="MCS Diwany2 S_U normal."/>
                <a:ea typeface="Traditional Arabic"/>
              </a:rPr>
              <a:t>)</a:t>
            </a:r>
            <a:r>
              <a:rPr b="1" lang="ar-SA" sz="3200" spc="-1" strike="noStrike">
                <a:solidFill>
                  <a:srgbClr val="000000"/>
                </a:solidFill>
                <a:latin typeface="MCS Diwany2 S_U normal."/>
                <a:ea typeface="Traditional Arabic"/>
              </a:rPr>
              <a:t> إنما الصدقات للفقراء والمساكين والعاملين عليها و</a:t>
            </a:r>
            <a:r>
              <a:rPr b="1" lang="ar-SA" sz="3200" spc="-1" strike="noStrike">
                <a:solidFill>
                  <a:srgbClr val="66ff33"/>
                </a:solidFill>
                <a:latin typeface="MCS Diwany2 S_U normal."/>
                <a:cs typeface="Traditional Arabic"/>
              </a:rPr>
              <a:t>المؤلفة</a:t>
            </a:r>
            <a:r>
              <a:rPr b="1" lang="ar-SA" sz="3200" spc="-1" strike="noStrike">
                <a:solidFill>
                  <a:srgbClr val="000000"/>
                </a:solidFill>
                <a:latin typeface="MCS Diwany2 S_U normal."/>
                <a:ea typeface="Traditional Arabic"/>
              </a:rPr>
              <a:t> 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MCS Diwany2 S_U normal."/>
                <a:ea typeface="Traditional Arabic"/>
              </a:rPr>
              <a:t>                    </a:t>
            </a:r>
            <a:r>
              <a:rPr b="1" lang="ar-SA" sz="3200" spc="-1" strike="noStrike">
                <a:solidFill>
                  <a:srgbClr val="0000ff"/>
                </a:solidFill>
                <a:latin typeface="MCS Diwany2 S_U normal."/>
                <a:ea typeface="Traditional Arabic"/>
              </a:rPr>
              <a:t> قلوبهم </a:t>
            </a:r>
            <a:r>
              <a:rPr b="1" lang="ar-SA" sz="3200" spc="-1" strike="noStrike">
                <a:solidFill>
                  <a:srgbClr val="000000"/>
                </a:solidFill>
                <a:latin typeface="MCS Diwany2 S_U normal."/>
                <a:cs typeface="Traditional Arabic"/>
              </a:rPr>
              <a:t>وفي الرقاب والغارمين وفي سبيل الله </a:t>
            </a:r>
            <a:r>
              <a:rPr b="1" lang="en-US" sz="3200" spc="-1" strike="noStrike">
                <a:solidFill>
                  <a:srgbClr val="000000"/>
                </a:solidFill>
                <a:latin typeface="MCS Diwany2 S_U normal."/>
                <a:ea typeface="MCS Diwany2 S_U normal."/>
              </a:rPr>
              <a:t>(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57040" indent="-257040" algn="r" rtl="1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MCS Diwany2 S_U normal."/>
                <a:cs typeface="Traditional Arabic"/>
              </a:rPr>
              <a:t>قال تعالى : </a:t>
            </a:r>
            <a:r>
              <a:rPr b="1" lang="en-US" sz="3200" spc="-1" strike="noStrike">
                <a:solidFill>
                  <a:srgbClr val="000000"/>
                </a:solidFill>
                <a:latin typeface="MCS Diwany2 S_U normal."/>
                <a:ea typeface="Traditional Arabic"/>
              </a:rPr>
              <a:t>)</a:t>
            </a:r>
            <a:r>
              <a:rPr b="1" lang="ar-SA" sz="3200" spc="-1" strike="noStrike">
                <a:solidFill>
                  <a:srgbClr val="000000"/>
                </a:solidFill>
                <a:latin typeface="MCS Diwany2 S_U normal."/>
                <a:ea typeface="Traditional Arabic"/>
              </a:rPr>
              <a:t> إنَّ هؤلاء </a:t>
            </a:r>
            <a:r>
              <a:rPr b="1" lang="ar-SA" sz="3200" spc="-1" strike="noStrike">
                <a:solidFill>
                  <a:srgbClr val="66ff33"/>
                </a:solidFill>
                <a:latin typeface="MCS Diwany2 S_U normal."/>
                <a:cs typeface="Traditional Arabic"/>
              </a:rPr>
              <a:t>مُتَبَّر</a:t>
            </a:r>
            <a:r>
              <a:rPr b="1" lang="ar-SA" sz="3200" spc="-1" strike="noStrike">
                <a:solidFill>
                  <a:srgbClr val="000000"/>
                </a:solidFill>
                <a:latin typeface="MCS Diwany2 S_U normal.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MCS Diwany2 S_U normal."/>
                <a:cs typeface="Traditional Arabic"/>
              </a:rPr>
              <a:t>مَّا</a:t>
            </a:r>
            <a:r>
              <a:rPr b="1" lang="ar-SA" sz="3200" spc="-1" strike="noStrike">
                <a:solidFill>
                  <a:srgbClr val="000000"/>
                </a:solidFill>
                <a:latin typeface="MCS Diwany2 S_U normal."/>
                <a:ea typeface="Traditional Arabic"/>
              </a:rPr>
              <a:t> هم فيه وباطلٌ ما كانوا يعملون </a:t>
            </a:r>
            <a:r>
              <a:rPr b="1" lang="en-US" sz="3200" spc="-1" strike="noStrike">
                <a:solidFill>
                  <a:srgbClr val="000000"/>
                </a:solidFill>
                <a:latin typeface="MCS Diwany2 S_U normal."/>
                <a:ea typeface="MCS Diwany2 S_U normal."/>
              </a:rPr>
              <a:t>(</a:t>
            </a:r>
            <a:r>
              <a:rPr b="1" lang="ar-SA" sz="3200" spc="-1" strike="noStrike">
                <a:solidFill>
                  <a:srgbClr val="000000"/>
                </a:solidFill>
                <a:latin typeface="MCS Diwany2 S_U normal."/>
                <a:ea typeface="Traditional Arab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57040" indent="-257040" algn="r" rtl="1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MCS Diwany2 S_U normal."/>
                <a:cs typeface="Traditional Arabic"/>
              </a:rPr>
              <a:t>قال تعالى : </a:t>
            </a:r>
            <a:r>
              <a:rPr b="1" lang="en-US" sz="3200" spc="-1" strike="noStrike">
                <a:solidFill>
                  <a:srgbClr val="000000"/>
                </a:solidFill>
                <a:latin typeface="MCS Diwany2 S_U normal."/>
                <a:ea typeface="Traditional Arabic"/>
              </a:rPr>
              <a:t>)</a:t>
            </a:r>
            <a:r>
              <a:rPr b="1" lang="ar-SA" sz="3200" spc="-1" strike="noStrike">
                <a:solidFill>
                  <a:srgbClr val="000000"/>
                </a:solidFill>
                <a:latin typeface="MCS Diwany2 S_U normal."/>
                <a:ea typeface="Traditional Arabic"/>
              </a:rPr>
              <a:t> وقالت اليهود  يد الله  </a:t>
            </a:r>
            <a:r>
              <a:rPr b="1" lang="ar-SA" sz="3200" spc="-1" strike="noStrike">
                <a:solidFill>
                  <a:srgbClr val="66ff33"/>
                </a:solidFill>
                <a:latin typeface="MCS Diwany2 S_U normal."/>
                <a:cs typeface="Traditional Arabic"/>
              </a:rPr>
              <a:t>مغلولة</a:t>
            </a:r>
            <a:r>
              <a:rPr b="1" lang="ar-SA" sz="3200" spc="-1" strike="noStrike">
                <a:solidFill>
                  <a:srgbClr val="000000"/>
                </a:solidFill>
                <a:latin typeface="MCS Diwany2 S_U normal."/>
                <a:ea typeface="Traditional Arabic"/>
              </a:rPr>
              <a:t> غُلت أيديهم ولعنوا بم قالوا </a:t>
            </a:r>
            <a:r>
              <a:rPr b="1" lang="en-US" sz="3200" spc="-1" strike="noStrike">
                <a:solidFill>
                  <a:srgbClr val="000000"/>
                </a:solidFill>
                <a:latin typeface="MCS Diwany2 S_U normal."/>
                <a:ea typeface="MCS Diwany2 S_U normal."/>
              </a:rPr>
              <a:t>(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57040" indent="-257040" algn="r" rtl="1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MCS Diwany2 S_U normal."/>
                <a:cs typeface="Traditional Arabic"/>
              </a:rPr>
              <a:t>قال تعالى : </a:t>
            </a:r>
            <a:r>
              <a:rPr b="1" lang="en-US" sz="3200" spc="-1" strike="noStrike">
                <a:solidFill>
                  <a:srgbClr val="000000"/>
                </a:solidFill>
                <a:latin typeface="MCS Diwany2 S_U normal."/>
                <a:ea typeface="Traditional Arabic"/>
              </a:rPr>
              <a:t>)</a:t>
            </a:r>
            <a:r>
              <a:rPr b="1" lang="ar-SA" sz="3200" spc="-1" strike="noStrike">
                <a:solidFill>
                  <a:srgbClr val="000000"/>
                </a:solidFill>
                <a:latin typeface="MCS Diwany2 S_U normal."/>
                <a:ea typeface="Traditional Arabic"/>
              </a:rPr>
              <a:t> وإنَّ للمتقين لحسن مآب # جنات عدنٍ </a:t>
            </a:r>
            <a:r>
              <a:rPr b="1" lang="ar-SA" sz="3200" spc="-1" strike="noStrike">
                <a:solidFill>
                  <a:srgbClr val="66ff33"/>
                </a:solidFill>
                <a:latin typeface="MCS Diwany2 S_U normal."/>
                <a:cs typeface="Traditional Arabic"/>
              </a:rPr>
              <a:t>مفتَّحةً</a:t>
            </a:r>
            <a:r>
              <a:rPr b="1" lang="ar-SA" sz="3200" spc="-1" strike="noStrike">
                <a:solidFill>
                  <a:srgbClr val="000000"/>
                </a:solidFill>
                <a:latin typeface="MCS Diwany2 S_U normal."/>
                <a:ea typeface="Traditional Arabic"/>
              </a:rPr>
              <a:t> لهم </a:t>
            </a:r>
            <a:r>
              <a:rPr b="1" lang="ar-SA" sz="3200" spc="-1" strike="noStrike">
                <a:solidFill>
                  <a:srgbClr val="0000ff"/>
                </a:solidFill>
                <a:latin typeface="MCS Diwany2 S_U normal."/>
                <a:cs typeface="Traditional Arabic"/>
              </a:rPr>
              <a:t>الأبواب</a:t>
            </a:r>
            <a:r>
              <a:rPr b="1" lang="ar-SA" sz="3200" spc="-1" strike="noStrike">
                <a:solidFill>
                  <a:srgbClr val="000000"/>
                </a:solidFill>
                <a:latin typeface="MCS Diwany2 S_U normal."/>
                <a:ea typeface="Traditional Arab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MCS Diwany2 S_U normal."/>
                <a:ea typeface="MCS Diwany2 S_U normal."/>
              </a:rPr>
              <a:t>(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57040" indent="-257040" algn="r" rtl="1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MCS Diwany2 S_U normal."/>
                <a:ea typeface="Traditional Arabic"/>
              </a:rPr>
              <a:t>    الجبان </a:t>
            </a:r>
            <a:r>
              <a:rPr b="1" lang="ar-SA" sz="3200" spc="-1" strike="noStrike">
                <a:solidFill>
                  <a:srgbClr val="66ff33"/>
                </a:solidFill>
                <a:latin typeface="MCS Diwany2 S_U normal."/>
                <a:cs typeface="Traditional Arabic"/>
              </a:rPr>
              <a:t>مخلوعٌ </a:t>
            </a:r>
            <a:r>
              <a:rPr b="1" lang="ar-SA" sz="3200" spc="-1" strike="noStrike">
                <a:solidFill>
                  <a:srgbClr val="0000ff"/>
                </a:solidFill>
                <a:latin typeface="MCS Diwany2 S_U normal."/>
                <a:cs typeface="Traditional Arabic"/>
              </a:rPr>
              <a:t>قلبُه </a:t>
            </a:r>
            <a:r>
              <a:rPr b="1" lang="ar-SA" sz="3200" spc="-1" strike="noStrike">
                <a:solidFill>
                  <a:srgbClr val="000000"/>
                </a:solidFill>
                <a:latin typeface="MCS Diwany2 S_U normal."/>
                <a:ea typeface="Traditional Arabic"/>
              </a:rPr>
              <a:t>   ـ    الجبان </a:t>
            </a:r>
            <a:r>
              <a:rPr b="1" lang="ar-SA" sz="3200" spc="-1" strike="noStrike">
                <a:solidFill>
                  <a:srgbClr val="66ff33"/>
                </a:solidFill>
                <a:latin typeface="MCS Diwany2 S_U normal."/>
                <a:cs typeface="Traditional Arabic"/>
              </a:rPr>
              <a:t>مخلوعُ </a:t>
            </a:r>
            <a:r>
              <a:rPr b="1" lang="ar-SA" sz="3200" spc="-1" strike="noStrike">
                <a:solidFill>
                  <a:srgbClr val="0000ff"/>
                </a:solidFill>
                <a:latin typeface="MCS Diwany2 S_U normal."/>
                <a:cs typeface="Traditional Arabic"/>
              </a:rPr>
              <a:t>القلبِ </a:t>
            </a:r>
            <a:r>
              <a:rPr b="1" lang="ar-SA" sz="3200" spc="-1" strike="noStrike">
                <a:solidFill>
                  <a:srgbClr val="000000"/>
                </a:solidFill>
                <a:latin typeface="MCS Diwany2 S_U normal."/>
                <a:ea typeface="Traditional Arab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10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99"/>
                </a:solidFill>
                <a:latin typeface="Arial"/>
                <a:cs typeface="PT Bold Heading"/>
              </a:rPr>
              <a:t>اسم المفعول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86868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  <a:cs typeface="PT Bold Heading"/>
              </a:rPr>
              <a:t>اسم المفعول</a:t>
            </a:r>
            <a:r>
              <a:rPr b="1" lang="ar-SA" sz="3200" spc="-1" strike="noStrike">
                <a:solidFill>
                  <a:srgbClr val="ffffff"/>
                </a:solidFill>
                <a:latin typeface="Verdana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Verdana"/>
                <a:cs typeface="Traditional Arabic"/>
              </a:rPr>
              <a:t>هو اسم مشتق يدل على ذات وقع عليها الفعل المصوغ منه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  <a:cs typeface="Traditional Arabic"/>
              </a:rPr>
              <a:t>مثال : المؤمن محمود السيرة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  <a:cs typeface="Traditional Arabic"/>
              </a:rPr>
              <a:t>اسم المفعول : محمود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  <a:cs typeface="Traditional Arabic"/>
              </a:rPr>
              <a:t>اسم مشتق يدل على شيء وقع عليه الحمد 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 algn="r" rtl="1">
              <a:spcBef>
                <a:spcPts val="79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  <a:cs typeface="PT Bold Heading"/>
              </a:rPr>
              <a:t>يصاغ اسم المفعول من الفعل المبني للمجهول :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Traditional Arab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 algn="r" rtl="1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ff33"/>
                </a:solidFill>
                <a:latin typeface="Verdana"/>
                <a:cs typeface="PT Bold Heading"/>
              </a:rPr>
              <a:t>إن كان ثلاثيًا جاء على 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Verdana"/>
                <a:cs typeface="Traditional Arabic"/>
              </a:rPr>
              <a:t>وزن ( مفعول ) مثل 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  <a:ea typeface="Traditional Arabic"/>
              </a:rPr>
              <a:t>       عُلِمَ  ،    شُكِرَ  ،    سُمِعَ 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  <a:ea typeface="Traditional Arabic"/>
              </a:rPr>
              <a:t>      معلوم ،  مشكور ،  مسموع .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Traditional Arab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99"/>
                </a:solidFill>
                <a:latin typeface="Arial"/>
                <a:cs typeface="PT Bold Heading"/>
              </a:rPr>
              <a:t>اسم المفعول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6360" y="980640"/>
            <a:ext cx="907272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Verdana"/>
                <a:cs typeface="Traditional Arabic"/>
              </a:rPr>
              <a:t>ومن غير الثلاثي 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ff33"/>
                </a:solidFill>
                <a:latin typeface="Verdana"/>
                <a:cs typeface="PT Bold Heading"/>
              </a:rPr>
              <a:t>على وزن مضارعه مع إبدال حرف المضارعة ميمًا مضمومة وفتح ما قبل الآخر</a:t>
            </a:r>
            <a:r>
              <a:rPr b="1" lang="ar-SA" sz="3200" spc="-1" strike="noStrike">
                <a:solidFill>
                  <a:srgbClr val="ffffff"/>
                </a:solidFill>
                <a:latin typeface="Verdana"/>
                <a:ea typeface="Traditional Arabic"/>
              </a:rPr>
              <a:t>  </a:t>
            </a:r>
            <a:r>
              <a:rPr b="1" lang="ar-SA" sz="3200" spc="-1" strike="noStrike">
                <a:solidFill>
                  <a:srgbClr val="0000ff"/>
                </a:solidFill>
                <a:latin typeface="Verdana"/>
                <a:cs typeface="Traditional Arabic"/>
              </a:rPr>
              <a:t>مثل :</a:t>
            </a:r>
            <a:r>
              <a:rPr b="1" lang="ar-SA" sz="3200" spc="-1" strike="noStrike">
                <a:solidFill>
                  <a:srgbClr val="ffffff"/>
                </a:solidFill>
                <a:latin typeface="Verdana"/>
                <a:ea typeface="Traditional Arab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  <a:ea typeface="Traditional Arabic"/>
              </a:rPr>
              <a:t>   أُتقِنَ    ،   اُحْتُفِلَ   ،   اُسْتُقْبِلَ  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  <a:ea typeface="Traditional Arabic"/>
              </a:rPr>
              <a:t>  مُتْقَنٌ     ،   مُحْتَفَلٌ   ،  مُسْتَقْبَلٌ  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Verdana"/>
                <a:cs typeface="Traditional Arabic"/>
              </a:rPr>
              <a:t>ما عمل اسم المفعول 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ff33"/>
                </a:solidFill>
                <a:latin typeface="Verdana"/>
                <a:cs typeface="PT Bold Heading"/>
              </a:rPr>
              <a:t>يعمل اسم المفعول عمل الفعل المبني للمجهول ، فيرفع نائب الفاعل ، مثال 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  <a:cs typeface="Traditional Arabic"/>
              </a:rPr>
              <a:t>العاقل مقبول رأيه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 algn="r" rtl="1">
              <a:lnSpc>
                <a:spcPct val="90000"/>
              </a:lnSpc>
              <a:spcBef>
                <a:spcPts val="700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Verdana"/>
                <a:cs typeface="Traditional Arabic"/>
              </a:rPr>
              <a:t>مقبول</a:t>
            </a:r>
            <a:r>
              <a:rPr b="1" lang="ar-SA" sz="3200" spc="-1" strike="noStrike">
                <a:solidFill>
                  <a:srgbClr val="ffffff"/>
                </a:solidFill>
                <a:latin typeface="Verdana"/>
                <a:ea typeface="Traditional Arabic"/>
              </a:rPr>
              <a:t> :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  <a:cs typeface="Traditional Arabic"/>
              </a:rPr>
              <a:t>اسم مفعول يعرب خبر مرفوع وعلامة رفعه الضمة الظاهرة على آخره 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Verdana"/>
                <a:cs typeface="Traditional Arabic"/>
              </a:rPr>
              <a:t>رأيه</a:t>
            </a:r>
            <a:r>
              <a:rPr b="1" lang="ar-SA" sz="3200" spc="-1" strike="noStrike">
                <a:solidFill>
                  <a:srgbClr val="ffffff"/>
                </a:solidFill>
                <a:latin typeface="Verdana"/>
                <a:ea typeface="Traditional Arabic"/>
              </a:rPr>
              <a:t> : نائب فاعل ( لاسم المفعول مقبول ) مرفوع وعلامة رفعه الضمة الظاهرة على آخره ، وهو مضاف والهاء ضمير في محل جر بالإضافة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99"/>
                </a:solidFill>
                <a:latin typeface="Arial"/>
                <a:cs typeface="PT Bold Heading"/>
              </a:rPr>
              <a:t>اسم المفعول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2560" y="764640"/>
            <a:ext cx="889308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ff33"/>
                </a:solidFill>
                <a:latin typeface="Verdana"/>
                <a:ea typeface="Traditional Arabic"/>
              </a:rPr>
              <a:t>   يعمل اسم المفعول عمل الفعل المبني للمجهول ، فيرفع نائب الفاعل ، </a:t>
            </a:r>
            <a:br>
              <a:rPr sz="3200"/>
            </a:br>
            <a:r>
              <a:rPr b="1" lang="ar-SA" sz="3200" spc="-1" strike="noStrike">
                <a:solidFill>
                  <a:srgbClr val="66ff33"/>
                </a:solidFill>
                <a:latin typeface="Verdana"/>
                <a:ea typeface="Traditional Arabic"/>
              </a:rPr>
              <a:t>   بالشروط السابقة في عمل اسم الفاعل تمامًا 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33280" indent="-233280" algn="r" rtl="1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  <a:cs typeface="PT Bold Heading"/>
              </a:rPr>
              <a:t>إذا اتصلت باسم المفعول ( ال ) عَمِلَ عَمَلَ فعله بلا شرط 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33280" indent="-2332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Verdana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MCS Diwany2 S_U normal."/>
                <a:cs typeface="Traditional Arabic"/>
              </a:rPr>
              <a:t>قال تعالى :</a:t>
            </a:r>
            <a:r>
              <a:rPr b="1" lang="en-US" sz="3200" spc="-1" strike="noStrike">
                <a:solidFill>
                  <a:srgbClr val="ffffff"/>
                </a:solidFill>
                <a:latin typeface="MCS Diwany2 S_U normal."/>
                <a:ea typeface="Traditional Arabic"/>
              </a:rPr>
              <a:t>)</a:t>
            </a:r>
            <a:r>
              <a:rPr b="1" lang="ar-SA" sz="3200" spc="-1" strike="noStrike">
                <a:solidFill>
                  <a:srgbClr val="ffffff"/>
                </a:solidFill>
                <a:latin typeface="MCS Diwany2 S_U normal."/>
                <a:ea typeface="Traditional Arabic"/>
              </a:rPr>
              <a:t> إنما الصدقات للفقراء والمساكين والعاملين عليها و</a:t>
            </a:r>
            <a:r>
              <a:rPr b="1" lang="ar-SA" sz="3200" spc="-1" strike="noStrike">
                <a:solidFill>
                  <a:srgbClr val="66ff33"/>
                </a:solidFill>
                <a:latin typeface="MCS Diwany2 S_U normal."/>
                <a:cs typeface="Traditional Arabic"/>
              </a:rPr>
              <a:t>المؤلفة </a:t>
            </a:r>
            <a:br>
              <a:rPr sz="3200"/>
            </a:br>
            <a:r>
              <a:rPr b="1" lang="ar-SA" sz="3200" spc="-1" strike="noStrike">
                <a:solidFill>
                  <a:srgbClr val="ffffff"/>
                </a:solidFill>
                <a:latin typeface="MCS Diwany2 S_U normal."/>
                <a:ea typeface="Traditional Arabic"/>
              </a:rPr>
              <a:t>                     </a:t>
            </a:r>
            <a:r>
              <a:rPr b="1" lang="ar-SA" sz="3200" spc="-1" strike="noStrike">
                <a:solidFill>
                  <a:srgbClr val="0000ff"/>
                </a:solidFill>
                <a:latin typeface="MCS Diwany2 S_U normal."/>
                <a:cs typeface="Traditional Arabic"/>
              </a:rPr>
              <a:t>قلوبهم</a:t>
            </a:r>
            <a:r>
              <a:rPr b="1" lang="ar-SA" sz="3200" spc="-1" strike="noStrike">
                <a:solidFill>
                  <a:srgbClr val="ffffff"/>
                </a:solidFill>
                <a:latin typeface="MCS Diwany2 S_U normal."/>
                <a:ea typeface="Traditional Arabic"/>
              </a:rPr>
              <a:t> وفي الرقاب والغارمين وفي سبيل الله </a:t>
            </a:r>
            <a:r>
              <a:rPr b="1" lang="en-US" sz="3200" spc="-1" strike="noStrike">
                <a:solidFill>
                  <a:srgbClr val="ffffff"/>
                </a:solidFill>
                <a:latin typeface="MCS Diwany2 S_U normal."/>
                <a:ea typeface="MCS Diwany2 S_U normal."/>
              </a:rPr>
              <a:t>(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33280" indent="-23328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  <a:ea typeface="Traditional Arabic"/>
              </a:rPr>
              <a:t>  إذا لم تتصل ( ال ) باسم المفعول ، فإنه لا يعمل عمل فعله إلا إذا سبقه :  نفي ، أو استفهام ، أو نداء ، أو وقع خبرًا ـ ولو في الأصل ـ أو صفةً ،  أو حالاً ، أو عطف على واحد مما سبق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33280" indent="-233280" algn="r" rtl="1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MCS Diwany2 S_U normal."/>
                <a:cs typeface="Traditional Arabic"/>
              </a:rPr>
              <a:t>قال تعالى : </a:t>
            </a:r>
            <a:r>
              <a:rPr b="1" lang="en-US" sz="3200" spc="-1" strike="noStrike">
                <a:solidFill>
                  <a:srgbClr val="000000"/>
                </a:solidFill>
                <a:latin typeface="MCS Diwany2 S_U normal."/>
                <a:ea typeface="Traditional Arabic"/>
              </a:rPr>
              <a:t>)</a:t>
            </a:r>
            <a:r>
              <a:rPr b="1" lang="ar-SA" sz="3200" spc="-1" strike="noStrike">
                <a:solidFill>
                  <a:srgbClr val="000000"/>
                </a:solidFill>
                <a:latin typeface="MCS Diwany2 S_U normal."/>
                <a:ea typeface="Traditional Arabic"/>
              </a:rPr>
              <a:t> إنَّ هؤلاء </a:t>
            </a:r>
            <a:r>
              <a:rPr b="1" lang="ar-SA" sz="3200" spc="-1" strike="noStrike">
                <a:solidFill>
                  <a:srgbClr val="66ff33"/>
                </a:solidFill>
                <a:latin typeface="MCS Diwany2 S_U normal."/>
                <a:cs typeface="Traditional Arabic"/>
              </a:rPr>
              <a:t>مُتَبَّر</a:t>
            </a:r>
            <a:r>
              <a:rPr b="1" lang="ar-SA" sz="3200" spc="-1" strike="noStrike">
                <a:solidFill>
                  <a:srgbClr val="000000"/>
                </a:solidFill>
                <a:latin typeface="MCS Diwany2 S_U normal.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MCS Diwany2 S_U normal."/>
                <a:cs typeface="Traditional Arabic"/>
              </a:rPr>
              <a:t>مَّا</a:t>
            </a:r>
            <a:r>
              <a:rPr b="1" lang="ar-SA" sz="3200" spc="-1" strike="noStrike">
                <a:solidFill>
                  <a:srgbClr val="000000"/>
                </a:solidFill>
                <a:latin typeface="MCS Diwany2 S_U normal."/>
                <a:ea typeface="Traditional Arabic"/>
              </a:rPr>
              <a:t> هم فيه وباطلٌ ما كانوا يعملون </a:t>
            </a:r>
            <a:r>
              <a:rPr b="1" lang="en-US" sz="3200" spc="-1" strike="noStrike">
                <a:solidFill>
                  <a:srgbClr val="000000"/>
                </a:solidFill>
                <a:latin typeface="MCS Diwany2 S_U normal."/>
                <a:ea typeface="MCS Diwany2 S_U normal."/>
              </a:rPr>
              <a:t>(</a:t>
            </a:r>
            <a:r>
              <a:rPr b="1" lang="ar-SA" sz="3200" spc="-1" strike="noStrike">
                <a:solidFill>
                  <a:srgbClr val="000000"/>
                </a:solidFill>
                <a:latin typeface="MCS Diwany2 S_U normal."/>
                <a:ea typeface="Traditional Arab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33280" indent="-233280" algn="r" rtl="1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MCS Diwany2 S_U normal."/>
                <a:cs typeface="Traditional Arabic"/>
              </a:rPr>
              <a:t>قال تعالى : </a:t>
            </a:r>
            <a:r>
              <a:rPr b="1" lang="en-US" sz="3200" spc="-1" strike="noStrike">
                <a:solidFill>
                  <a:srgbClr val="000000"/>
                </a:solidFill>
                <a:latin typeface="MCS Diwany2 S_U normal."/>
                <a:ea typeface="Traditional Arabic"/>
              </a:rPr>
              <a:t>)</a:t>
            </a:r>
            <a:r>
              <a:rPr b="1" lang="ar-SA" sz="3200" spc="-1" strike="noStrike">
                <a:solidFill>
                  <a:srgbClr val="000000"/>
                </a:solidFill>
                <a:latin typeface="MCS Diwany2 S_U normal."/>
                <a:ea typeface="Traditional Arabic"/>
              </a:rPr>
              <a:t> وقالت اليهود  يد الله  </a:t>
            </a:r>
            <a:r>
              <a:rPr b="1" lang="ar-SA" sz="3200" spc="-1" strike="noStrike">
                <a:solidFill>
                  <a:srgbClr val="66ff33"/>
                </a:solidFill>
                <a:latin typeface="MCS Diwany2 S_U normal."/>
                <a:cs typeface="Traditional Arabic"/>
              </a:rPr>
              <a:t>مغلولة</a:t>
            </a:r>
            <a:r>
              <a:rPr b="1" lang="ar-SA" sz="3200" spc="-1" strike="noStrike">
                <a:solidFill>
                  <a:srgbClr val="000000"/>
                </a:solidFill>
                <a:latin typeface="MCS Diwany2 S_U normal."/>
                <a:ea typeface="Traditional Arabic"/>
              </a:rPr>
              <a:t> غُلت أيديهم ولعنوا بم قالوا </a:t>
            </a:r>
            <a:r>
              <a:rPr b="1" lang="en-US" sz="3200" spc="-1" strike="noStrike">
                <a:solidFill>
                  <a:srgbClr val="000000"/>
                </a:solidFill>
                <a:latin typeface="MCS Diwany2 S_U normal."/>
                <a:ea typeface="MCS Diwany2 S_U normal."/>
              </a:rPr>
              <a:t>(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33280" indent="-233280" algn="r" rtl="1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MCS Diwany2 S_U normal."/>
                <a:cs typeface="Traditional Arabic"/>
              </a:rPr>
              <a:t>قال تعالى : </a:t>
            </a:r>
            <a:r>
              <a:rPr b="1" lang="en-US" sz="3200" spc="-1" strike="noStrike">
                <a:solidFill>
                  <a:srgbClr val="000000"/>
                </a:solidFill>
                <a:latin typeface="MCS Diwany2 S_U normal."/>
                <a:ea typeface="Traditional Arabic"/>
              </a:rPr>
              <a:t>)</a:t>
            </a:r>
            <a:r>
              <a:rPr b="1" lang="ar-SA" sz="3200" spc="-1" strike="noStrike">
                <a:solidFill>
                  <a:srgbClr val="000000"/>
                </a:solidFill>
                <a:latin typeface="MCS Diwany2 S_U normal."/>
                <a:ea typeface="Traditional Arabic"/>
              </a:rPr>
              <a:t> وإنَّ للمتقين لحسن مآب # جنات عدنٍ </a:t>
            </a:r>
            <a:r>
              <a:rPr b="1" lang="ar-SA" sz="3200" spc="-1" strike="noStrike">
                <a:solidFill>
                  <a:srgbClr val="66ff33"/>
                </a:solidFill>
                <a:latin typeface="MCS Diwany2 S_U normal."/>
                <a:cs typeface="Traditional Arabic"/>
              </a:rPr>
              <a:t>مفتَّحةً</a:t>
            </a:r>
            <a:r>
              <a:rPr b="1" lang="ar-SA" sz="3200" spc="-1" strike="noStrike">
                <a:solidFill>
                  <a:srgbClr val="000000"/>
                </a:solidFill>
                <a:latin typeface="MCS Diwany2 S_U normal."/>
                <a:ea typeface="Traditional Arabic"/>
              </a:rPr>
              <a:t> لهم </a:t>
            </a:r>
            <a:r>
              <a:rPr b="1" lang="ar-SA" sz="3200" spc="-1" strike="noStrike">
                <a:solidFill>
                  <a:srgbClr val="0000ff"/>
                </a:solidFill>
                <a:latin typeface="MCS Diwany2 S_U normal."/>
                <a:cs typeface="Traditional Arabic"/>
              </a:rPr>
              <a:t>الأبواب</a:t>
            </a:r>
            <a:r>
              <a:rPr b="1" lang="ar-SA" sz="3200" spc="-1" strike="noStrike">
                <a:solidFill>
                  <a:srgbClr val="000000"/>
                </a:solidFill>
                <a:latin typeface="MCS Diwany2 S_U normal."/>
                <a:ea typeface="Traditional Arab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MCS Diwany2 S_U normal."/>
                <a:ea typeface="MCS Diwany2 S_U normal."/>
              </a:rPr>
              <a:t>(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1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1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10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99"/>
                </a:solidFill>
                <a:latin typeface="Arial"/>
                <a:cs typeface="PT Bold Heading"/>
              </a:rPr>
              <a:t>اسم المفعول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889308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MCS Diwany2 S_U normal."/>
                <a:cs typeface="Traditional Arabic"/>
              </a:rPr>
              <a:t>أعرب ما تحته خط فيما يلي 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1600" indent="-291600" algn="r" rtl="1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MCS Diwany2 S_U normal."/>
                <a:cs typeface="Traditional Arabic"/>
              </a:rPr>
              <a:t>الجبان</a:t>
            </a:r>
            <a:r>
              <a:rPr b="1" lang="ar-SA" sz="3200" spc="-1" strike="noStrike">
                <a:solidFill>
                  <a:srgbClr val="000000"/>
                </a:solidFill>
                <a:latin typeface="MCS Diwany2 S_U normal.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66ff33"/>
                </a:solidFill>
                <a:latin typeface="MCS Diwany2 S_U normal."/>
                <a:cs typeface="Traditional Arabic"/>
              </a:rPr>
              <a:t>مخلوعٌ </a:t>
            </a:r>
            <a:r>
              <a:rPr b="1" lang="ar-SA" sz="3200" spc="-1" strike="noStrike" u="sng">
                <a:solidFill>
                  <a:srgbClr val="0000ff"/>
                </a:solidFill>
                <a:uFillTx/>
                <a:latin typeface="MCS Diwany2 S_U normal."/>
                <a:cs typeface="Traditional Arabic"/>
              </a:rPr>
              <a:t>قلبُهُ</a:t>
            </a:r>
            <a:r>
              <a:rPr b="1" lang="ar-SA" sz="3200" spc="-1" strike="noStrike">
                <a:solidFill>
                  <a:srgbClr val="0000ff"/>
                </a:solidFill>
                <a:latin typeface="MCS Diwany2 S_U normal.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MCS Diwany2 S_U normal."/>
                <a:ea typeface="Traditional Arab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1600" indent="-291600" algn="r" rtl="1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MCS Diwany2 S_U normal."/>
                <a:cs typeface="Traditional Arabic"/>
              </a:rPr>
              <a:t>يعرب نائب فاعل مرفوع وعلامة رفعه الضمة الظاهرة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1600" indent="-291600" algn="r" rtl="1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MCS Diwany2 S_U normal."/>
                <a:ea typeface="Traditional Arabic"/>
              </a:rPr>
              <a:t>   </a:t>
            </a:r>
            <a:r>
              <a:rPr b="1" lang="ar-SA" sz="3200" spc="-1" strike="noStrike">
                <a:solidFill>
                  <a:srgbClr val="ffffff"/>
                </a:solidFill>
                <a:latin typeface="MCS Diwany2 S_U normal."/>
                <a:cs typeface="Traditional Arabic"/>
              </a:rPr>
              <a:t>الجبان</a:t>
            </a:r>
            <a:r>
              <a:rPr b="1" lang="ar-SA" sz="3200" spc="-1" strike="noStrike">
                <a:solidFill>
                  <a:srgbClr val="000000"/>
                </a:solidFill>
                <a:latin typeface="MCS Diwany2 S_U normal.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66ff33"/>
                </a:solidFill>
                <a:latin typeface="MCS Diwany2 S_U normal."/>
                <a:cs typeface="Traditional Arabic"/>
              </a:rPr>
              <a:t>مخلوعُ </a:t>
            </a:r>
            <a:r>
              <a:rPr b="1" lang="ar-SA" sz="3200" spc="-1" strike="noStrike" u="sng">
                <a:solidFill>
                  <a:srgbClr val="0000ff"/>
                </a:solidFill>
                <a:uFillTx/>
                <a:latin typeface="MCS Diwany2 S_U normal."/>
                <a:cs typeface="Traditional Arabic"/>
              </a:rPr>
              <a:t>القلبِ</a:t>
            </a:r>
            <a:r>
              <a:rPr b="1" lang="ar-SA" sz="3200" spc="-1" strike="noStrike">
                <a:solidFill>
                  <a:srgbClr val="0000ff"/>
                </a:solidFill>
                <a:latin typeface="MCS Diwany2 S_U normal.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MCS Diwany2 S_U normal."/>
                <a:ea typeface="Traditional Arab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1600" indent="-291600"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  <a:cs typeface="Traditional Arabic"/>
              </a:rPr>
              <a:t>مضاف إليه مجرور وعلامة جره الكسرة الظاهرة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1600" indent="-291600" algn="r" rtl="1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ff33"/>
                </a:solidFill>
                <a:latin typeface="Verdana"/>
                <a:cs typeface="PT Bold Heading"/>
              </a:rPr>
              <a:t>يجوز أن يضاف اسم المفعول إلى معموله إذا تلاه مباشرة 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1600" indent="-291600" algn="r" rtl="1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  <a:cs typeface="Traditional Arabic"/>
              </a:rPr>
              <a:t>قد وردت صيغ سماعية تؤدي ما يؤديه اسم المفعول تمامًا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1600" indent="-291600" algn="r" rtl="1">
              <a:spcBef>
                <a:spcPts val="700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  <a:ea typeface="Traditional Arabic"/>
              </a:rPr>
              <a:t>     وأشهر تلك الصيغ ( فعيل ) بمعنى ( مفعول ) مثل : ( جريح وقتيل )      </a:t>
            </a:r>
            <a:br>
              <a:rPr sz="3200"/>
            </a:br>
            <a:r>
              <a:rPr b="1" lang="ar-SA" sz="3200" spc="-1" strike="noStrike">
                <a:solidFill>
                  <a:srgbClr val="ffffff"/>
                </a:solidFill>
                <a:latin typeface="Verdana"/>
                <a:ea typeface="Traditional Arabic"/>
              </a:rPr>
              <a:t>     بمعنى ( مجروح ومقتول ) .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  <a:ea typeface="PT Bold Heading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2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7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2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7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2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7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2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99"/>
                </a:solidFill>
                <a:latin typeface="Arial"/>
                <a:cs typeface="PT Bold Heading"/>
              </a:rPr>
              <a:t>اسم المفعول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820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  <a:cs typeface="Traditional Arabic"/>
              </a:rPr>
              <a:t>اسم المفعول هو اسم مشتق يدل على ذات وقع عليها الفعل المصوغ منه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  <a:cs typeface="Traditional Arabic"/>
              </a:rPr>
              <a:t>يصاغ اسم المفعول من الفعل المبني للمجهول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  <a:cs typeface="Traditional Arabic"/>
              </a:rPr>
              <a:t>فإن كان ثلاثيًا جاء على  وزن ( مفعول )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  <a:cs typeface="Traditional Arabic"/>
              </a:rPr>
              <a:t>وإن زاد على ثلاثة جاء على وزن مضارعه مع إبدال حرف المضارعة ميمًا مضمومة وفتح ما قبل الآخر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  <a:cs typeface="Traditional Arabic"/>
              </a:rPr>
              <a:t>يعمل اسم المفعول عمل الفعل المبني للمجهول ، فيرفع نائب الفاعل ، </a:t>
            </a:r>
            <a:br>
              <a:rPr sz="3200"/>
            </a:br>
            <a:r>
              <a:rPr b="1" lang="ar-SA" sz="3200" spc="-1" strike="noStrike">
                <a:solidFill>
                  <a:srgbClr val="ffffff"/>
                </a:solidFill>
                <a:latin typeface="Verdana"/>
                <a:ea typeface="Traditional Arabic"/>
              </a:rPr>
              <a:t>   بالشروط السابقة في عمل اسم الفاعل تمامًا 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r" rtl="1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  <a:cs typeface="Traditional Arabic"/>
              </a:rPr>
              <a:t>يجوز أن يضاف اسم المفعول إلى معموله إذا تلاه مباشرة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844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4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9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4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9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03:27:26Z</dcterms:created>
  <dc:creator>ZA2002</dc:creator>
  <dc:description/>
  <dc:language>en-US</dc:language>
  <cp:lastModifiedBy>ZA2002</cp:lastModifiedBy>
  <dcterms:modified xsi:type="dcterms:W3CDTF">2003-10-22T02:15:02Z</dcterms:modified>
  <cp:revision>8</cp:revision>
  <dc:subject/>
  <dc:title>اسم المفعول</dc:title>
</cp:coreProperties>
</file>